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9880-9F89-4717-9D81-EA737696B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-bit signed format is in the form of one signed bit, four int bits, and eight fraction bits, giving a dynamic range of +- 16.0, where a current card has a range of 0-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 show how clampling to 0-16 enhances image quality without much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 iterated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bright lighting used with only one texture. Iterated diffuse color is clamped to a larger range through rampage pipe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ly bright lights turn most objects, white (wash out), almost regardless or surface color or light col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s: Surfaces/lights that are pure Red, Green or Blue. Police car lights are an example here. (Co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bient light is still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viously a purple light turns an object Pur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ling Gary’s idea of giving away big money prizes to keep people interested in the 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image is created by traditional hardware. Overbright purple light gets clamped at 1.0, creating a non-overbright white light, causing the object to appear green instead of pur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n astetic point of view, Left image is the “right one”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up: Four lines of code. One enabling larger clamp range in hardwa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three for changing the clamp value to 0-15.ff instead of 0-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from a top-selling movi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uter gen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d washed-out area in the background. Notice blurring of detail because of the high intensity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y Halo Demo now. Point out key features. Mentioned “exaggerated effect” to be noticable on a low-res projection moni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HALO D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g running four-pass, voodoo3, eight textures to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through each of the textures, one by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Surface Tex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Light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Light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Reflection map/gloss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Environment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up: This was shown at TI 1998 (Verify with Gar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is Fu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multiple lightmap demo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cene (not a CGI scene), shows how to use the borg effect on a more day to day sce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 pavement. Wet pavement at night is used a lot in moves: it looks a lot better than dry pa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ed diffuse light map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ss map, for moist areas. Alpha channel could indicate where puddles a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r environment map. May also need a detail map. Could be a bump env.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map, applied to puddles.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ultiple projection/ reflection maps, for all the lights at different 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eneration Video engine includes enhanced MPEG support, better Scaling, Flicker filtering, advanced deinterlaced filtering (above bob or weave), and temporal fil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running predator demo, then NPR rendering demos, while showing thi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ox G400 already does 1-level recursion, for environment bump mapping. Rampage’s much more flexible. BumpEnv mapping is a subset of recursive textur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original npr.z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soft shadow demo during this slide, to show what single-light source shadows can look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textures, completely independant, regardless of filtering type or number of pixel pipes, or whether AA is turned on or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ators. Multiple iterators used for iterating non-colors: Normals, transform matric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ion means using output of pixel shader to modify texture address coordinates, similar to a cpu’s index addressing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ure computer is our version of a pixel sh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hilosophy: textures are multi-dimensional arrays, useful as surface data, light data,1D and 2D t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round quad operand : (A+/-B)*C+D. Can build blends, macs, other ops out of this basic fuc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ased multiplexing useful for clamping, piecewise linear functions, min/max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show off uses for the compare based multiplexing and output summing in demos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movie loop at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able Anisotropic means with enough precision and enough taps and precision to give the sharpest possible images possible, with no aliasing artifacts dur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ing type orthogonal to all other operations, number of texutres, shading modes, etc. Allows for easy integration into any 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128 taps, real images show only a 50% performance drop from bilin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to trilinear, since trilinear blurs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B3E-60BE-4FFF-874B-C09F9611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40284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30A-B4F0-4258-A6E3-027A9774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293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8AE-19E8-4DF6-B299-6442FE5D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2048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480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F8C-7904-4031-9F18-10D343EE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C71-4C65-4933-9B63-EF806880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7DB-6CF9-4AFC-8CB4-738BB40C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065-A419-44A4-87F2-50649D99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1AAB-ADCE-4606-BD4C-69BA4E68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151920"/>
            <a:ext cx="6933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974-97F8-40DD-A7B9-E8E82B53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5CD-515E-49A9-B07F-EF09017A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93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7FE-AC5C-4A9A-8E46-8A0BF07C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F62-4640-47CE-8823-BF49D675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mersion1" descr="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9A6C-950C-44DF-8469-18C10D550CD4}" type="slidenum"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562720" y="655308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Times New Roman"/>
              </a:rPr>
              <a:t>Proprietary and 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Texturing and Shad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mmett Kilgariff, VP of Architectu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mmett@3dfx.co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3/9/00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Texture Computer/Pixel Shad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76440" y="1641600"/>
          <a:ext cx="7567560" cy="52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641600"/>
                    <a:ext cx="756756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2D0D-2063-4348-958C-9FECD4FF4C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Higher bit precision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3 bit signed colors (overbright color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duces darkening associated with multi-texturing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lows for “wash out” effect prevalent in cinema and vide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urface attenuations goes from 0 to 1.0, but light intensity can go from 0 to infinity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ful in scenes with sunlight or nighttime scen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Higher precision for environment bump mapping matrix multiply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ighting engine could easily be changed to clamp from 0 - 16 instead of 0-1 giving overbright iterated lighting automaticall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1D2-2C83-4C76-A347-03B4ADB860C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Vertex Ligting: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reen Textured Martini G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t with White Ligh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230,230,230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1638360" cy="235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1692000" cy="2416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183-02A2-43CC-A5D9-407F85D7DDB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Bright Lights- 4x bright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ght clamped to 1.0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ght Clamped to 16.0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2027520" cy="229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91320" y="2819520"/>
            <a:ext cx="2027160" cy="2415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C76-3389-445F-A6B3-6B580A14D84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lored Lights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reen Textured Martini G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urple”  Ligh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230,75,230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1692360" cy="2416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2895480"/>
            <a:ext cx="1920960" cy="2370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BD4-7490-4548-8E2D-1C2238D0048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Quiz Quest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5120" y="12189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light gets much brighter (4x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hich image does traditional HW generat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5334120"/>
            <a:ext cx="7239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Follow up question: How many lines of code changed in the Lighting engine to generate the other im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1806840" cy="2468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0" y="2743200"/>
            <a:ext cx="195912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60D-99C0-4F5D-B57C-E82EDD1A319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Overbright Light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F28-1F2E-4422-AC80-07FF343A0F1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assive Multi-texturing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ultiple light maps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(Diffuse surface  * diffuse light) + (specular surface * specular light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pecular surface * iterated specular + (diffuse light * diffuse surface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ultiple specular maps and properties (water on pavement at night 6 textures)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ultiple projected textur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Each possibly with its own shadow map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oise functions, other methods of combining textures to simulate physical mo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water, fire, cloud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544-E2AD-4926-9E90-A00C028604A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e Bor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Quiz Ques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How Many textures are used the surface of the cub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llow up ques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At which year’s total immersion, was this demo first shown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llow-up Follow-up ques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hat is resistanc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A78-17E4-4781-83C2-A60E81243F7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Massive Multi-textur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3BB-B16A-4CA1-B173-E96F333C28E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ext Generation Rendering Engine (VTA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ext Generation Video Engin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6M tri/sec, 800MP/sec, Single textured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ogrammable Shad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igher quality filte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-buffer based A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A With 2 textures and Anisotropic with no performance hit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A With 4 textures with no performance hit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calable Architecture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Integrated Bridge functionality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Full AGP Support in SLI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A53-A183-4CA3-B362-27B41E2A272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Advanced Recurs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iffuse bump , specular bump, reflective bump maps combin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Each bump map disturbs coordinates of a different textur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se scaling of recursive data to make for subtle bump ma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Uneven tile floor, slightly distorted glas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ombine bump maps together then recurse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ipples on water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mp maps affecting other bump ma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2, 3 or 4 sets of recursions; fluids, turbulence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on-photo realistic rende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230-2DA1-4CCE-AAE3-3B50A9B82E7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ultiple Shadows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hadow lights, Sum lights together, then modulate surfa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odified stencil buffer trick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Use Pe’s Xor function, and ARGB channels to model up to four shadow sources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exture chroma compare w/percentage passed used to identify when pixel is lit by light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Object ID based shadowing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Shadow  map projected from light source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contains object ID of lit object in RGB channel.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Use percentage passed to select in/out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dvanced Object ID shadowing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Projected texture: RGB contain light, Alpha Object ID of surface lit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lpha channel used to  compare against Object ID, along with “never shadowing objects”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raditional chroma used to let light through or set to zero on a per-texel basis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2205-19F5-42D2-A8C3-2F1A78CAB8B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Shadow Demo 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2AA-7922-47A6-9DE4-C31033B47F5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iscellaneous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he Iris effect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Do all lighting /texturing in 13 bit space, then use a constant color register to scale the range based on the average intensity of the imag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t Produc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hree term (R0*R1 + G0*G1 + B0*B1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Four term (A0*A1 + R0*R1 + G0*G1 + B0*B1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in/Max affec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Used in Halo Dem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CFA-51F8-4664-8EE0-4D3F541CDA4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combinations of up to eight textur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selection of filtering mod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r-texel oper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texture computer with higher bit precis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mple address ops based on texture computer outpu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Of course, this adds “flexibility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4E2-026A-481D-AAB9-718742F0AE6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anks for the images &amp; Demo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Denis Amsele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ubert Nguye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ouman Meshki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Jeff Whit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Gary Taroll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07A-A3E2-40BE-A5CD-BED0EC39143C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Feature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76080" y="1295280"/>
            <a:ext cx="75675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Multitexturing: 8 textures each with different filtering: point, bilinear, trilinear, anisotropic (up to 128-tap)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Iterators: 8 ARGBSTW iterators: one per textur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Recursion (Address ops) : recursion in parallel or series on up to 4 textures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ny combination of 4 recursions on the 8 available textures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ecursion allows one texture to perturb the values of another textur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Two recursion mod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Before and after W divide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pplicable for bump mapping and procedural textures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isc-like address op instruction model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ubic Environment Mapping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Compress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DirectX/DXT (all formats) ,FXT1 compressed textur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YUV Texture format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996-A75E-403A-9224-BD0FD2FA188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Rampage Features (Continued)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371600"/>
            <a:ext cx="6933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exture Computer (Pixel Shader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flexible math capabilit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combine unit: (a+b)*c+d feeding..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...color combine unit: (A+B)*C+D where each abcd and ABCD can be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from any of iterator, texture, previous, registered and constant valu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anipulated independently with: x, -x, 1-x and x-0.5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ompare based multiplexing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texture and color: combine unit: (a-b)? c:d and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exture combine unit output summ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+G+B may feed 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color combine unit: .(a+b)*c+d, alpha and/or color channel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ful for intensity ops, dot product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Register based combin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lows for Sum of products, products of sum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ECF-BCCC-4A38-93CD-FB5E05D71D8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Features (Continued)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Larger color component precis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3 bits per component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Precision maintained through alpha blender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pha Blender Logic Op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Quad pixel pipelin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 pixels-per-clock single textured (per chip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/N pixels per clock for N textures (per chip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calable rendering: Up to four chips ganged together. No bridge chip required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Optimized Geometry Pipelin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Viewport Transforms and efficient host/graphics IO yield optimum performan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Works with (or without) Sage geometry co-processo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C01-2E45-456F-9A44-A4C654F0EE5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Why do we need massive multi-texturing if we have T&amp;L?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160" y="2666520"/>
            <a:ext cx="69339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r pixel light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hadow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ultiple light and surface map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odeling physical properties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E85-22F1-42A3-BF6B-078BCEEF48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rogramming Flexibilit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Each texture has totally independent programming state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TG: Recursion Dat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Before Perspective correct divide or afte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cursive data can be scaled by a power of 2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ddress = Iterator + (offset &lt;&lt; n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cursion can be turned off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lter Contro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ipmapping contro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oint sampled, bilinear, trilinear, anisotropi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One map of many can be anisotropic without slowing the other textur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 through 128 tap filtering selectable per-texture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CB7-AEFB-4333-B594-2B3D934A263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rogramming Flexibility (continued)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er-texel operations (texture chroma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hroma on value or rang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lexible RGB control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RGB compares can be replaced with Alpha (3 compares)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raditional chroma (replace with black) Chroma Replace, Percentage passed mode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seful for smooth chroma-key effects, shadows, etc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970-0EC0-408C-9C05-8256449FC3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6933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Anisotropic Filter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43434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ampage enables usable anisotropic filtering for the first time in a cost effective personal computer environmen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ar superior to trilinear filter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3880" y="837360"/>
            <a:ext cx="3695760" cy="3296160"/>
            <a:chOff x="1523880" y="837360"/>
            <a:chExt cx="3695760" cy="32961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523880" y="1247400"/>
              <a:ext cx="369576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669760" y="837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6637"/>
                  </a:solidFill>
                  <a:latin typeface="Arial"/>
                </a:rPr>
                <a:t>Trilin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837360"/>
            <a:ext cx="3695760" cy="3299400"/>
            <a:chOff x="5257800" y="837360"/>
            <a:chExt cx="3695760" cy="329940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257800" y="1250640"/>
              <a:ext cx="369576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494040" y="83736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6637"/>
                  </a:solidFill>
                  <a:latin typeface="Arial"/>
                </a:rPr>
                <a:t>Anisotrop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947-E11E-4824-8BC7-10D09582C25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3:29:20Z</dcterms:created>
  <dc:creator>3Dfx</dc:creator>
  <dc:description/>
  <dc:language>en-US</dc:language>
  <cp:lastModifiedBy>Preferred Customer</cp:lastModifiedBy>
  <dcterms:modified xsi:type="dcterms:W3CDTF">2000-08-01T02:05:24Z</dcterms:modified>
  <cp:revision>26</cp:revision>
  <dc:subject>Rampage Overview</dc:subject>
  <dc:title>Immersion 2000</dc:title>
</cp:coreProperties>
</file>